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6477-74FB-4E66-A6F5-84AE2C993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87EE-035A-4780-85F6-9FC4B96C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F485-C3AD-4A94-9F74-CEA28441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CDE1-9EFF-43B6-A0F9-69EC292B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93D9-C3A3-4660-9C24-B9CCD380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ADFF-C101-49D4-BA2F-9384878E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6AA1-1608-4125-A775-C1F06724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959D-1EBB-47DA-9B6F-6D986A2B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2032-9291-4920-98BB-F542BA9D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3A6C-BAF2-4E28-9DD4-9A49EEAD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415E-8E5A-4953-814F-C954C289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4B3A-C727-4F2F-A227-BC6E4F00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C80F-37F2-447F-9116-5E8BCC82D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Орбит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оц. Др Татјана Шаренац Вулов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Тумори орби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Доста врста различитог ткив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римарни или секундарни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Бенигни или малигн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сеудотумор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УЗВ орбите, ЦТ, НМР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Клиничка слика: дислокација очне јабучице, смањена покретљивост, хемоза вежњаче, бол, промењен видна оштрина, секундарни глауком, ..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Хистолошка верификац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Терапија: конзилијарна одлу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Тумори орбите код одрасли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сеудотумори-хистолошка верификација- лечење:конзервативн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Хемангиом-споро прогресивна лезија- ЦТ НМР орбит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Малигни лимфом орбите- хематолог и биопсија- цитостатска терап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Хематогене метастазе- карцином дојке, бронха, меланом кож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Малигни Нон Хочкинов лимфом- зрачна терап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Тумори орбите код дец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Рабдомиосарком- 3-10 година старости; унилатрална протрузија, брз ток; хистолошка верификација; цитостатици и зрачна терапија, евентуално хирурш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Неуробластом- секундарни тумор; брзо напредујућа протрузија, оток капака, хемоза вежњаче; ЦТ ретроперитонеума, зрачна терап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Хемангиом-спонатано повалачење...хируршки уколико угрожава вид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риказ клиничког 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ацијенткиња стара 43 године која се жали да јој једно око делује као да је веће од другог у последњих 3-4 месеца. Бол у дубини леве орбит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Лична анамнеза: негира болести од значаја. Негира алергију на храну и леков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ородична анамнеза: мајка је оперисала штитасту жлезд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Садашња болест: пацијенткиња наводи да је приметила да јој је једно око веће од другог у последње време. Наводи да повремено осећа лупање срца, да се мало више зноји и да је смршала у последње врем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VOD:1.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VOS: 1.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TOD: 17mmH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TOS: 19mmH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SLOD: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налаз уреда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SLOS: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протрузија очне јабучице пут напред, ивица горњег капка се налази на 2 мм од лимбуса рожњаче, хиперемија вежњач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FOD: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PNO-b.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FOS: PNO-b.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Дијагно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онсултативни преглед ендокринолога- хормонски статус штитасте жлезд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Хертел егзофталмометрија- О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: 17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mm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, О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S: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20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mm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, база 101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m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Ехо орбите- увећање правих мишића уз увећање ретробулбарног масног ткива, без знакова фиброз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MRI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орбите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Dg: Hypertyreodismus. Ophthalmopathia Grav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F:\vezbe 3\Graves.jpg"/>
          <p:cNvPicPr/>
          <p:nvPr/>
        </p:nvPicPr>
        <p:blipFill>
          <a:blip r:embed="rId1"/>
          <a:stretch/>
        </p:blipFill>
        <p:spPr>
          <a:xfrm>
            <a:off x="533520" y="1523880"/>
            <a:ext cx="2857320" cy="1428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F:\vezbe 3\440px-Graves_Ophthalmopathy_MRT_01.jpg"/>
          <p:cNvPicPr/>
          <p:nvPr/>
        </p:nvPicPr>
        <p:blipFill>
          <a:blip r:embed="rId2"/>
          <a:stretch/>
        </p:blipFill>
        <p:spPr>
          <a:xfrm>
            <a:off x="5334120" y="457200"/>
            <a:ext cx="2817720" cy="3240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F:\vezbe 3\Img2946_52_low.jpg"/>
          <p:cNvPicPr/>
          <p:nvPr/>
        </p:nvPicPr>
        <p:blipFill>
          <a:blip r:embed="rId3"/>
          <a:stretch/>
        </p:blipFill>
        <p:spPr>
          <a:xfrm>
            <a:off x="685800" y="373392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F:\vezbe 3\index.jpg"/>
          <p:cNvPicPr/>
          <p:nvPr/>
        </p:nvPicPr>
        <p:blipFill>
          <a:blip r:embed="rId4"/>
          <a:stretch/>
        </p:blipFill>
        <p:spPr>
          <a:xfrm>
            <a:off x="5410080" y="4267080"/>
            <a:ext cx="2648160" cy="17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Терап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Ендокринолошка терапија-тиреосупреси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улсне дозе кортикостреоида, уколико су позитивна антитиреоглобулинска антитела а нема знакова фиброзе правих мишића очне јабучи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екомпресија орбите (преко латералног зида орбите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риказ клиничког 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ацијент стар 72 године наводи да му је у неколико последњих дана око црвено и да га боли и да се знатно повећал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Лична анамнеза: болује од ХТА. Негира алергију на храну и леков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ородична анамнеза: негира болести од знача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адашња болест: у последњих десетак дана је пације приметио да му се чини као да му је десно око порасло, а у последњих 3-4 дана му је око поцрвенел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VOD: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0.5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VOS: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TOD: 1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mmH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TOS: 1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mmH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SLOD: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ротрузија очне јабучице доле и темпорално, хиперемија булбарне вежњаче, тачкаста епителиопатија рожњаче, почетна нуклеарна скрам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SLOS: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почетна нуклеарна скрам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FOD: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F. hypertonicu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FOS: F. hypertonicu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Анатом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Четворстрана положена пирамида са базом према напред, а врх према позад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База- 40х35мм, прекривена капци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Врх-удаљен од базе 40-50мм, отвор оптичког нер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Запремина 30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убни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Четири зида-7 костиј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пецифичност положаја орбите-комуникација са ендокранијумом-пропагација процес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Дијагно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Крвна слика- поремећај у белој лоз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Консултативни преглед хематолог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Хертел егзофталмометрија- О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: 22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mm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, О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S: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 16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mm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, база 105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m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Ехо орбите- у предњем делу орбите горе и назално се уочава мекоткивна сенка-средње рефлективнос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Биопсија промене са патохистолошком верификацијо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MRI 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орбите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Dg OD: Tu intraorbitale-Lymphoma orbita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F:\vezbe 3\lim 1.jpg"/>
          <p:cNvPicPr/>
          <p:nvPr/>
        </p:nvPicPr>
        <p:blipFill>
          <a:blip r:embed="rId1"/>
          <a:stretch/>
        </p:blipFill>
        <p:spPr>
          <a:xfrm>
            <a:off x="609480" y="304920"/>
            <a:ext cx="2847960" cy="1600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F:\vezbe 3\limf 2.png"/>
          <p:cNvPicPr/>
          <p:nvPr/>
        </p:nvPicPr>
        <p:blipFill>
          <a:blip r:embed="rId2"/>
          <a:stretch/>
        </p:blipFill>
        <p:spPr>
          <a:xfrm>
            <a:off x="3809880" y="1523880"/>
            <a:ext cx="4762800" cy="4133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F:\vezbe 3\limf 4.jpg"/>
          <p:cNvPicPr/>
          <p:nvPr/>
        </p:nvPicPr>
        <p:blipFill>
          <a:blip r:embed="rId3"/>
          <a:stretch/>
        </p:blipFill>
        <p:spPr>
          <a:xfrm>
            <a:off x="838080" y="2514600"/>
            <a:ext cx="249264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Терап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ематолошка 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ештачке сузе, маст, оклуз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3" descr="26e3b744d501d98740390d1090c86216--orbit-anatom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orbita.jpg"/>
          <p:cNvPicPr/>
          <p:nvPr/>
        </p:nvPicPr>
        <p:blipFill>
          <a:blip r:embed="rId1"/>
          <a:stretch/>
        </p:blipFill>
        <p:spPr>
          <a:xfrm>
            <a:off x="1630440" y="1600200"/>
            <a:ext cx="588312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Садржај орби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чна јабучица- 7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убн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птички нер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ишићи покретачи очне јабучи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узна жлез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асно тки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рви, крвни и лимфни судо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оложај очне јабучице у орби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Централн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У конусу очних мишића, који је са свих страна обавијен масним ткив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Енофталмус-физиолошки и патолошк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Егзофталмус-једностран, обостран, интермитентни, пулзирајући, псеудоегзофталмус (Грејвс Базедовљева болест, гојазност, крварења у орбити, тумори у орбити..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Дијагностика обољења орби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Анамнеза- бол и брзина развоја ( тумори, запаљења, крварења, ..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Егзофталмометрија- по Хертелу. Растојање врха рожњаче од спољашње ивице орбите. 20м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асиметрија већа од 2мм; више од 8мм-постојање тумо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Биомикроскопија- боја коже капака, постојање хиперемије вежњаче, проширење еписклералних крвних судо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Офталмоскопија- промене на ретине или очном живцу-стаз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hertel.jpg"/>
          <p:cNvPicPr/>
          <p:nvPr/>
        </p:nvPicPr>
        <p:blipFill>
          <a:blip r:embed="rId1"/>
          <a:stretch/>
        </p:blipFill>
        <p:spPr>
          <a:xfrm>
            <a:off x="7194600" y="5489640"/>
            <a:ext cx="194940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Рентгенографија орбите- прелом зидова орбите, сумња на интраорбитално страно тел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Ехографија орбите- откривање и праћење експанзивних процеса у орбити, без штетних последица. (обољење штитасте жлезде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Компјутеризована томографија-за откривање промена у меким и коштаним структурама орбит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уклерана магнетна резонанца- за мекоткивне промен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Ангиографија-повреде, АВ фистуле, венски варикозитет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Запаљенске боле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Инфективни агенс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Celullitis orbitae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акутно, негнојно запаљењ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Флегмона-гнојно запаљењ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Апсцес- локализовано накупљање гнојне колекције у појединим деловима орбит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Идиопатски инфламаторни синдром орбите-псеудотумор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3" descr="cellulitis 1.jpg"/>
          <p:cNvPicPr/>
          <p:nvPr/>
        </p:nvPicPr>
        <p:blipFill>
          <a:blip r:embed="rId1"/>
          <a:stretch/>
        </p:blipFill>
        <p:spPr>
          <a:xfrm>
            <a:off x="7086600" y="3886200"/>
            <a:ext cx="1663560" cy="111600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3" descr="absceus.gif"/>
          <p:cNvPicPr/>
          <p:nvPr/>
        </p:nvPicPr>
        <p:blipFill>
          <a:blip r:embed="rId2"/>
          <a:stretch/>
        </p:blipFill>
        <p:spPr>
          <a:xfrm>
            <a:off x="6400800" y="0"/>
            <a:ext cx="2400480" cy="205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Win7</dc:creator>
  <dc:description/>
  <dc:language>en-US</dc:language>
  <cp:lastModifiedBy>Windows User</cp:lastModifiedBy>
  <dcterms:modified xsi:type="dcterms:W3CDTF">2020-09-26T16:57:09Z</dcterms:modified>
  <cp:revision>7</cp:revision>
  <dc:subject/>
  <dc:title>Орбита</dc:title>
</cp:coreProperties>
</file>