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F52-792C-47F9-804D-3CEE1ED4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2EF-D2DB-446A-84C1-DFFA66DF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909-1B3B-4A42-BE3C-F000528B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9DC-D32E-4571-AFC2-C40BFA34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C60E0-A1C2-41FF-ABC0-B8E12FB4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BF6C4-AFF8-43FB-9754-5814B8AA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24425-979C-4C4A-9FAD-56973DF9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C964B-3EDC-4B99-9C67-A3EA5AD3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7F158-2E01-4BF2-A6C7-60A91FE2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C3F5F-946C-4932-ABC6-3117A666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0BC78-F954-4A14-95A8-23843C0F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49A-AEB2-4DC5-88BE-D27D2586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CCCBA-B514-46E0-8B2D-067056A0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EDF85-2F2A-4B69-982A-568A95DD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4781C-CE7F-446C-83DD-D71735E2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73B42-A24B-4D3A-BE8D-05B65D4A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DB501-5C67-4D8B-8DB8-EBD0F65F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6C6-17FE-46E6-AAAE-29486935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8F7-22A5-4BEC-A20F-6A59138A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58A-CD30-468D-B039-D4C06A5D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145-8249-49AE-8AF4-A4B762CF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4B0-30CB-4C16-8434-F401862B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BBA-00AF-4657-81A3-DA72910A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101-CD3C-4066-A3D8-57A0C395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6C90-3B2D-4DD8-BC01-93B344D15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CE1F-7F6B-4A22-975A-A9D51F40F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Орби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ц. Др Татјана Шаренац Вул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нофталму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влачење очне јабучице према позади, као да је ма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Физиолошки- старост, мршавост- смањење масног тк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толошки- тупе повреде са преломима коштаних зидова, ожиљавање после запаљења или лечења тумора у орбити, лезија вратног симпатикуса (ослабљен Милеров мишић, миоза- слаб дилататор пупиле, птоза-Клод- Бернар-Хорнеров тријас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гзофталму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овећана запремина садржаја очне дупље- велике оч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од гојазних људ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Грејвс- Базедовљева болест- лагофталмус, експозициони кератити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Инфективни запаљенски процеси у орби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рварења у орби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Интермитентни- савијање главе напред, напор, копресија вена врата. Услед варикозитета вратних вена- секундарни глаук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екомпресија орби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улзирајући егзофталмус- нагли почетак, зујање у глави, пулзације- артерио-венске комуникације у кавернозном синусу измежу унутрашње каротидне артерије и кавернозног синуса- прелом базе лобање- неурохируршко лече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сеудоегзофталмус- асиметрија лица, ретракција капка, висока миопија, пареза или парализа очних мишић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ИСЛОКАЦИЈА ОЧНЕ ЈАБУЧИЦЕ-булбус померен у супротну страну од локализација тумора или неког другог процеса са смањеном покретљивошћ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Exophthalmos+-+Enophthalmos.jpg"/>
          <p:cNvPicPr/>
          <p:nvPr/>
        </p:nvPicPr>
        <p:blipFill>
          <a:blip r:embed="rId1"/>
          <a:stretch/>
        </p:blipFill>
        <p:spPr>
          <a:xfrm>
            <a:off x="1523880" y="233208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exo eno.jpg"/>
          <p:cNvPicPr/>
          <p:nvPr/>
        </p:nvPicPr>
        <p:blipFill>
          <a:blip r:embed="rId2"/>
          <a:stretch/>
        </p:blipFill>
        <p:spPr>
          <a:xfrm>
            <a:off x="1752480" y="0"/>
            <a:ext cx="50799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јагностика обољења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намнеза- бол и брзина развоја ( тумори, запаљења, крварења, .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гзофталмометрија- по Хертелу. Растојање врха рожњаче од спољашње ивице орбите. 20м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симетрија већа од 2мм; више од 8мм-постојање тум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Биомикроскопија- боја коже капака, постојање хиперемије вежњаче, проширење еписклералних крвних суд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фталмоскопија- промене на ретине или очном живцу-ста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hertel.jpg"/>
          <p:cNvPicPr/>
          <p:nvPr/>
        </p:nvPicPr>
        <p:blipFill>
          <a:blip r:embed="rId1"/>
          <a:stretch/>
        </p:blipFill>
        <p:spPr>
          <a:xfrm>
            <a:off x="7194600" y="5489640"/>
            <a:ext cx="19494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Рентгенографија орбите- прелом зидова орбите, сумња на интраорбитално страно тел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хографија орбите- откривање и праћење експанзивних процеса у орбити, без штетних последица. (обољење штитасте жлезд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мпјутеризована томографија-за орткивање промена у меким и коштаним структурама орби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уклерана магнетна резонанца- за мекоткивне проме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нгиографија-повреде, АВ фистуле, венски варикозите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Запаљенске болести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фективни аген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диопатски инфламаторни синдром орбите-псеудотум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Инфективна ет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Celullitis orbitae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утно, негнојно запа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легмона-гнојно запа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псцес- локализовано накупљање гнојне колекције у појединим деловима орб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Целулитис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зрочник: грам позитивне стафилококе, грам негативни хемофилус инфлуенце. Синуси, носна шупљина, повреде коже капака. Ендогено ретк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ничка слика: оток капака без интензивног црвенила; хемотична или хиперемична вежњача, протрузија очне јабучице, болна покретљив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јагностика: анамнеза. Нагло, бол, црвенил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ерапија: антибиотс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3" descr="cellulitis 1.jpg"/>
          <p:cNvPicPr/>
          <p:nvPr/>
        </p:nvPicPr>
        <p:blipFill>
          <a:blip r:embed="rId1"/>
          <a:stretch/>
        </p:blipFill>
        <p:spPr>
          <a:xfrm>
            <a:off x="3886200" y="3581280"/>
            <a:ext cx="3619440" cy="242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ellulitis.jpg"/>
          <p:cNvPicPr/>
          <p:nvPr/>
        </p:nvPicPr>
        <p:blipFill>
          <a:blip r:embed="rId2"/>
          <a:stretch/>
        </p:blipFill>
        <p:spPr>
          <a:xfrm>
            <a:off x="762120" y="1676520"/>
            <a:ext cx="277164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натом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Четворстрана положена пирамида са базом према напред, а врх према поз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аза- 40х35мм, прекривена капц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рх-удаљен од базе 40-50мм, отвор оптичког нер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премина 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убн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Четири зида-7 кост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легмона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Узрочник: као код целулити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линичка слика: нелечени или неправилни или недовољно лечени целулитис. Интензивирани знаци целулитиса: оток и црвенило капака, хемоза вежњаче, непокретна егзофталмичн очна јабучица, проширене вене на очном дн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ОМЕЊЕНО ОПШТЕ СТАЊЕ:повишена телесна темпретаура, малаксалост, менингиза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ијагностика: анамнеза, клиничка слика, леукоцитоз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омпликације: тромбоза кавернозног синуса, гнојни менингитис, паралитички страбизам, експозициони кератитис (лагофталмус), слепил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Терапија: антибиотс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псцес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иничка слика: после флегмоне, у завосности од величине и локализације зависи и поремећај положаја и покретљивости очне јабучице, повишена телесна темпретаура, слаби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агностика: анамнеза, клиничка слика, леукоцитоза, ЦТ, НМ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рапија: антибиотска и хируршк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3" descr="absceus.gif"/>
          <p:cNvPicPr/>
          <p:nvPr/>
        </p:nvPicPr>
        <p:blipFill>
          <a:blip r:embed="rId1"/>
          <a:stretch/>
        </p:blipFill>
        <p:spPr>
          <a:xfrm>
            <a:off x="2733840" y="2290680"/>
            <a:ext cx="36763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сеудотумор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паљенска инфилтрација меког ткива орб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Ширење из околних структура- синуз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.слика: егзофталмус, смањена покретљивост мишића, бол у “дубини ока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агностика: анамнеза (нема промене општег стаља, нити промене у крв. слици), Ехо орбите, МРИ урб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рапија: кортикостеросид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есептални целулит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септални целулитис је честа инфекција капака и периорбиталног меког ткива, праћена еритемом и оток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актерије, вируси, гљивице, параз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кално ширење- синузитис, дакриоцититис, спољна инфекција ока, траума о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септални целулитис→целул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птум орб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л при покретима ока, губитак вида, повећање едема и црвенила- напредовање процеса запаљења према дубљим деловима орб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ушка деца, з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линичка слика-пресептални целулити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имптом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Бо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нјунктивити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пиф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мањење видне оштри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схроматопсија (црвено-зелен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нички знац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ериорбитални еритем и едем ( у случају постојања трауме, искључити присуство страног тел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45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Razlike kod preseptalnog I orbitalnog celulitis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00000" y="404640"/>
          <a:ext cx="7417080" cy="6240600"/>
        </p:xfrm>
        <a:graphic>
          <a:graphicData uri="http://schemas.openxmlformats.org/drawingml/2006/table">
            <a:tbl>
              <a:tblPr/>
              <a:tblGrid>
                <a:gridCol w="2471760"/>
                <a:gridCol w="2473560"/>
                <a:gridCol w="2471760"/>
              </a:tblGrid>
              <a:tr h="695520"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l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ptalni celulit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alni celul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to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ut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u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etljiv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nj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 pri kretan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u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u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alni 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u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u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e biti smanj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pilarna  reakcij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e biti abnormalni pupilarni defe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zacija roznj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e biti sman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amoloskop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e biti abnormalna, venska kongestija, edem disk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ski znac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biljno te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јагност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нализа крви-ККС, култура- позитивна тек код развоја сепс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ултура- конјунктивалног секрета, промена на кожи, садржај из сузне кесиц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Ц- реактивни проте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мпјутеризована томограф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лтразвучни преглед орб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Лумбална пунк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ано откривање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Брз почетак терап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мпиријско ординирање антибиотика- инфекција респираторних путева, траума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nontypeable 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 influenza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oraxella catarrhali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раума-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 aureu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Methicillin-resistant 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 aureu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(MRSA)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ора да се искључи код перзистирања знакова инфекције и поред примењене терапиј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орњи зид (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paries superior)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апред:хоризонтални део чеоне кости; позади: мало крило сфеноидалне кости; одваја орбиту од предње лобањске јаме- чеони сину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едијални зид (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paries medialis)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чеони наставак горње виличне кости, сузна кост, етмоидална кост, предњи део бочне стране сфеноидалне кости; одваја орбиту од носне шупљине, садржи етмоидални сину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аћење тока болести- означити маркером границу промене на ко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ренажа- дакриоциститис, апсцес у кожи ка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имски рад: педијатар- оториноларинголог- инфектолог- офталмо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хоспитализовани пациј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анофталмит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стовремено запаљење унутрашњости очне јабучице-ендофталмитис, њених омотача и садржаја орби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тиологија: као код целулитис или флегмо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линичка слика: смањен вид (после ендофталмитиса), отечени капци, хемоза вежњаче, протрузија,непокретан булбус, хипопион, повишена тел.темпретаура, малаксалост, повраћа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ијагностика: анамнеза, клиничка слика, леукоцитоз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ерапија: антибиоткса, евисцер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3" descr="panophthalmitis.jpg"/>
          <p:cNvPicPr/>
          <p:nvPr/>
        </p:nvPicPr>
        <p:blipFill>
          <a:blip r:embed="rId1"/>
          <a:stretch/>
        </p:blipFill>
        <p:spPr>
          <a:xfrm>
            <a:off x="2743200" y="264312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умори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оста врста различитог тки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римарни или секундарн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Бенигни или малигн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сеудотумор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ЗВ орбите, ЦТ, НМ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линичка слика: дислокација очне јабучице, смањена покретљивост, хемоза вежњаче, бол, промењен видна оштрина, секундарни глауком, 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Хистолошка верифик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ерапија: конзилијарна одлу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tent Placeholder 3" descr="orbital tumor.jpg"/>
          <p:cNvPicPr/>
          <p:nvPr/>
        </p:nvPicPr>
        <p:blipFill>
          <a:blip r:embed="rId1"/>
          <a:stretch/>
        </p:blipFill>
        <p:spPr>
          <a:xfrm>
            <a:off x="1490760" y="2643120"/>
            <a:ext cx="6162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умори орбите код де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абдомиосарком- 3-10 година старости; унилатрална протрузија, брз ток; хистолошка верификација; цитостатици и зрачна терапија, евентуално хирурш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уробластом- секундарни тумор; брзо напредујућа протрузија, оток капака, хемоза вежњаче; ЦТ ретроперитонеума, зрачна терап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мангиом-спонатано повалачење...хируршки уколико угрожава вид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умори орбите код одрасл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сеудотумори-хистолошка верификација- лечење:конзерватив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мангиом-споро прогресивна лезија- ЦТ НМР орб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алигни лимфом орбите- хематолог и биопсија- цитостатска терап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ематогене метастазе- карцином дојке, бронха, меланом кож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алигни Нон Хочкинов лимфом- зрачна терап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6000" spc="-1" strike="noStrike">
                <a:solidFill>
                  <a:srgbClr val="000000"/>
                </a:solidFill>
                <a:latin typeface="Calibri"/>
              </a:rPr>
              <a:t>Хвала на пажњи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њи зид (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paries inferior)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горња вилица, зигоматична кост, орбитални наставак непчане кости: одваја орбиту од максиларног син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атерални зид (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paries lateralis)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игоматична кост велико крило сфеноидлане кости, зигоматични наставак чеоне кости; најдебљи и најчвршћи зи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Врх-отвор оптичког нерва који се наставља на оптички канал- оптички нерв и офталмичка артериј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Горња орбитална пукотина- средња лобањска јама- 3., 6. кранијални нерв;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n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phthalmicus-n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orntalis, n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acrimalis, n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asociliaris;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из орбите према кавернозном синусу иде горња офталмичка вен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оња орбитална пукотина- са инфратемпоралном и птеригопалатинском јамом-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n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nfraorbitalis, n.zygomatic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Горњи медијални зид- предњи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(a.ethmoidlaes ant, n.ethmoidlaes ant)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 и задњи етмоидални отвор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(a.ethmoidlaes post, n.ethmoidlaes pos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26e3b744d501d98740390d1090c86216--orbit-anato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адржај орби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чна јабучица- 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убн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тички нер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ишићи покретачи очне јабуч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зна жлез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сно тк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рви, крвни и лимфни суд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ложај очне јабучице у орби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ентрал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конусу очних мишића, који је са свих страна обавијен масним тки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нофталму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гзофталмус-једностран, обостран, интермитентни, пулзирајући, псеудоегзофталм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orbita.jpg"/>
          <p:cNvPicPr/>
          <p:nvPr/>
        </p:nvPicPr>
        <p:blipFill>
          <a:blip r:embed="rId1"/>
          <a:stretch/>
        </p:blipFill>
        <p:spPr>
          <a:xfrm>
            <a:off x="1630440" y="1600200"/>
            <a:ext cx="58831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Windows User</cp:lastModifiedBy>
  <dcterms:modified xsi:type="dcterms:W3CDTF">2020-09-26T16:09:27Z</dcterms:modified>
  <cp:revision>29</cp:revision>
  <dc:subject/>
  <dc:title>Орбита</dc:title>
</cp:coreProperties>
</file>